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27A1-B748-40EA-A33C-EF5994D12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FBA-461B-48F5-8C4D-F05ABAE3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20D-DD81-4BE4-94E0-3FFE8339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96EC-A51A-4D50-B9A4-1A20BF2E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E582-592B-4206-80D7-274FFF9E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07DA-E027-444C-9520-CBD41E40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3954-3F4B-4986-9C11-F293FD0A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7AFD-4388-4BDB-B98A-8A95879CC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8B9-CE62-41E2-9A0A-AB4F0077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CA6E-3BBE-4D6E-BBFD-7F9E92A5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9A7-3B5D-4CC0-9CAD-424AF69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B343-E182-4B8D-9209-A588B5D7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7DB5-B426-435C-BF61-F28DC6102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805680" y="1494000"/>
            <a:ext cx="754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Title Here (Helvetica, Bold, 32 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ore/Bridging Projec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0206"/>
                </a:solidFill>
                <a:latin typeface="Arial"/>
              </a:rPr>
              <a:t>Enzyme Function Initiative (E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y Committ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30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FI-logo-final-color"/>
          <p:cNvPicPr/>
          <p:nvPr/>
        </p:nvPicPr>
        <p:blipFill>
          <a:blip r:embed="rId1"/>
          <a:stretch/>
        </p:blipFill>
        <p:spPr>
          <a:xfrm>
            <a:off x="76320" y="19044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mark_bold"/>
          <p:cNvPicPr/>
          <p:nvPr/>
        </p:nvPicPr>
        <p:blipFill>
          <a:blip r:embed="rId2"/>
          <a:stretch/>
        </p:blipFill>
        <p:spPr>
          <a:xfrm>
            <a:off x="8736120" y="235080"/>
            <a:ext cx="338040" cy="438120"/>
          </a:xfrm>
          <a:prstGeom prst="rect">
            <a:avLst/>
          </a:prstGeom>
          <a:ln w="0">
            <a:noFill/>
          </a:ln>
        </p:spPr>
      </p:pic>
      <p:cxnSp>
        <p:nvCxnSpPr>
          <p:cNvPr id="45" name="Straight Arrow Connector 6"/>
          <p:cNvCxnSpPr/>
          <p:nvPr/>
        </p:nvCxnSpPr>
        <p:spPr>
          <a:xfrm flipV="1">
            <a:off x="8076240" y="837720"/>
            <a:ext cx="533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TextBox 7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university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2"/>
          <p:cNvSpPr/>
          <p:nvPr/>
        </p:nvSpPr>
        <p:spPr>
          <a:xfrm>
            <a:off x="1420560" y="228600"/>
            <a:ext cx="63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slide title here (Helvetica, Bold, 24 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7:03:55Z</dcterms:created>
  <dc:creator>John Gerlt</dc:creator>
  <dc:description/>
  <dc:language>en-US</dc:language>
  <cp:lastModifiedBy>John Gerlt</cp:lastModifiedBy>
  <dcterms:modified xsi:type="dcterms:W3CDTF">2011-10-09T14:37:13Z</dcterms:modified>
  <cp:revision>10</cp:revision>
  <dc:subject/>
  <dc:title>PowerPoint Presentation</dc:title>
</cp:coreProperties>
</file>